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B2AD-48BF-44AA-A6E1-3FD2AE58F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36E3-515C-4BA6-A7B6-24451EE5C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25F-6666-4266-8B7F-7536DC1D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6B9-67D9-43A4-AF77-BBDD8330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597-1873-43FE-ADF9-3657B856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CF1-A82C-43B5-A5BE-58F495BE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C81-8C13-40C7-AA09-74E1117E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5E9-E112-44CF-A8C2-30513396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CB4-35A3-4E0B-8310-6A5BB85E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43A-5A5A-4F7B-A845-4024235E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2D5-5078-4C23-A2D5-A3297495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796-9406-401B-8BA7-765F4BF9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D43-1DC2-434B-B95D-A0B5375C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7A7-3AF1-421C-A970-652AE1E8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B223-23D9-47E7-9EAF-78F31CB51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3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858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52280" y="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or Book Club Points to 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52280" y="2286000"/>
            <a:ext cx="20574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e on the Milk Cart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oline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s to Po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 face on the Milk Carton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 parents or a relative if they remember see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one now instead of plac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was a mystery to solve in your life would you solve it? What if solving the mystery could change you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Mr. and Mrs. Johnson in relation to Janie? What would you have done in their sit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6"/>
          <p:cNvSpPr/>
          <p:nvPr/>
        </p:nvSpPr>
        <p:spPr>
          <a:xfrm>
            <a:off x="2438280" y="-126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or Book Club Points to 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0"/>
          <p:cNvSpPr/>
          <p:nvPr/>
        </p:nvSpPr>
        <p:spPr>
          <a:xfrm>
            <a:off x="4724280" y="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or Book Club Points to 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1"/>
          <p:cNvSpPr/>
          <p:nvPr/>
        </p:nvSpPr>
        <p:spPr>
          <a:xfrm>
            <a:off x="4724280" y="272412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7010280" y="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or Book Club Points to 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5"/>
          <p:cNvSpPr/>
          <p:nvPr/>
        </p:nvSpPr>
        <p:spPr>
          <a:xfrm>
            <a:off x="7010280" y="272412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8" descr="j0288938"/>
          <p:cNvPicPr/>
          <p:nvPr/>
        </p:nvPicPr>
        <p:blipFill>
          <a:blip r:embed="rId1"/>
          <a:stretch/>
        </p:blipFill>
        <p:spPr>
          <a:xfrm>
            <a:off x="2743200" y="106668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" descr="j0288938"/>
          <p:cNvPicPr/>
          <p:nvPr/>
        </p:nvPicPr>
        <p:blipFill>
          <a:blip r:embed="rId2"/>
          <a:stretch/>
        </p:blipFill>
        <p:spPr>
          <a:xfrm>
            <a:off x="457200" y="1066680"/>
            <a:ext cx="1295280" cy="99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j0288938"/>
          <p:cNvPicPr/>
          <p:nvPr/>
        </p:nvPicPr>
        <p:blipFill>
          <a:blip r:embed="rId3"/>
          <a:stretch/>
        </p:blipFill>
        <p:spPr>
          <a:xfrm>
            <a:off x="5029200" y="114300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1" descr="j0288938"/>
          <p:cNvPicPr/>
          <p:nvPr/>
        </p:nvPicPr>
        <p:blipFill>
          <a:blip r:embed="rId4"/>
          <a:stretch/>
        </p:blipFill>
        <p:spPr>
          <a:xfrm>
            <a:off x="7238880" y="1066680"/>
            <a:ext cx="129564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3"/>
          <p:cNvSpPr/>
          <p:nvPr/>
        </p:nvSpPr>
        <p:spPr>
          <a:xfrm>
            <a:off x="2362320" y="2286000"/>
            <a:ext cx="213336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e on the Milk Cart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oline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s to Po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 face on the Milk Carton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 parents or a relative if they remember see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one now instead of plac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was a mystery to solve in your life would you solve it? What if solving the mystery could change you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Mr. and Mrs. Johnson in relation to Janie? What would you have done in their sit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4"/>
          <p:cNvSpPr/>
          <p:nvPr/>
        </p:nvSpPr>
        <p:spPr>
          <a:xfrm>
            <a:off x="4648320" y="2438280"/>
            <a:ext cx="213336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e on the Milk Cart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oline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s to Po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 face on the Milk Carton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 parents or a relative if they remember see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one now instead of plac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was a mystery to solve in your life would you solve it? What if solving the mystery could change you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Mr. and Mrs. Johnson in relation to Janie? What would you have done in their sit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5"/>
          <p:cNvSpPr/>
          <p:nvPr/>
        </p:nvSpPr>
        <p:spPr>
          <a:xfrm>
            <a:off x="6858000" y="2286000"/>
            <a:ext cx="20574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e on the Milk Cart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oline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s to Po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 face on the Milk Carton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 parents or a relative if they remember see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one now instead of placing a face on the milk car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was a mystery to solve in your life would you solve it? What if solving the mystery could change you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Mr. and Mrs. Johnson in relation to Janie? What would you have done in their sit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9:37:40Z</dcterms:created>
  <dc:creator>KISD</dc:creator>
  <dc:description/>
  <dc:language>en-US</dc:language>
  <cp:lastModifiedBy>AISD Employee</cp:lastModifiedBy>
  <dcterms:modified xsi:type="dcterms:W3CDTF">2010-06-01T19:52:25Z</dcterms:modified>
  <cp:revision>6</cp:revision>
  <dc:subject/>
  <dc:title>PowerPoint Presentation</dc:title>
</cp:coreProperties>
</file>